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A12-770A-434A-8D7C-F07A35F7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BCE-4377-40AB-B48E-CFC5848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1BB3B-1C9E-4D89-99EE-072A1BB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9AE39-08E2-47BB-8E76-75DCC62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6DA44-B879-4344-AA9C-3EA21370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8E776-27AF-4FE2-BFC9-26E607A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E17D-E819-40D6-A600-ACD5D55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D159C-47FD-4AAB-B5D0-173B1D3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8765-DA15-4A81-9C77-5E408D6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8DACF-1A47-4510-9C5F-45CE45B6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7DB0-9A38-49A8-8165-61CA2A5A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CF4EF-DCAC-42F2-B461-294453AA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2F9-1E13-421F-9415-61B3EC7B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E531D-E58D-4403-BCFB-887748D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97EDD-DD9E-435A-86FC-AC223CCA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3DB87-A561-4724-8795-F42EABA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94EE-9A22-4BC1-83D8-E6E8AD5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93F67-F959-40E8-9FE8-7126F9A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7551-F78A-48E3-8685-AA65269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F5F8C-5A04-4272-A94B-D5D6019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08E5F-3DFC-4A3B-8B0E-9F5A121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2AE0-D7A1-4117-9B99-E0AA8A7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F8B31-C439-407C-A4E0-EDC4B194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76F-A162-44C6-9ABF-3C0AE2A6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804E1-8A28-474D-9BDE-C544C501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4FDF-AA08-467B-919A-38AE311F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FE08-7865-4FD3-82E6-F4CE69DC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9C8E-AD6B-44EA-8BA3-FFAD10C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5065-FBB9-4F92-95DE-1270A3F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E73B-4677-4738-9FB0-95A1D45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563E-1B3F-42A5-A203-BEECC27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462D-404B-4BBE-B21C-7640731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83F-E1A3-4815-A00F-2BAA68A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501-5727-4A59-9312-D2D020BB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F541-6FBA-425F-A4B7-A303FD1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EA2A-8DBE-425A-82C8-9006309F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1FBE-2344-48A4-B7D5-0B1512E9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C9FE-D905-41C1-B87E-3A9736E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9F21-8705-4A8E-9AC5-10060820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391D-4380-4320-B204-68F55F49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F4B7-213B-49E0-825B-B9C57C1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332E-66F7-4130-AC30-81805CA9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9F8E-F83B-4EE5-B79B-D493E16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403-50CB-4324-AAC1-B9D0794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85CF-DD03-43AD-9E8F-3FB785C8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F6A6-F910-4569-9AC7-0769D7F1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BD9D-6B5A-4BA8-A8E2-797CB7E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9CBB-BD64-4823-9682-E1C64ED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E6D1-722F-4ADE-98B5-46C5A6A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51D5-7C50-4E6D-8745-203A6299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3F4B-3515-4A0B-9E24-8B5B062F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9F10-5545-43B5-9C86-19EECF0E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D5EC-BC55-4168-A284-8E8A1F64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7FE6-AFDE-4061-B335-3237EFA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9A8-D8A3-45A3-B0D7-8C69262A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9ECC-E75E-4D56-8E54-CA7562E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5B81-E01B-49D7-9E80-DE88F1F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528F-88E1-4AC5-96AD-94B06A8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16A8-F3FA-4879-892F-74D3E55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67A4-1DC7-4798-94D3-A574385E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1790-67BA-42BF-9857-DEA68DC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914A-B5AD-4991-A3AB-046099A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0A19-3B85-47E1-A6D3-E5030849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0AEA-C885-4A51-84AE-4AE71EBE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57354-CCD7-4704-ADCA-40C19F31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804-5AC9-48F3-AC8D-9963185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B08B-92A6-4CD8-ADE7-860B3F3E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8168-8222-4122-84CF-B6CA450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C1BD-4A23-4F69-9E0F-6AED5ED7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913D-F09A-4285-A047-C368CBFE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7F8A-D893-4F18-A8C3-D71F846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5FBB-F8DC-4055-9177-02537950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A379-2799-41A7-9265-FA0A88C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0772-8F82-4288-B2C0-0F0DD69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4DDD-EE23-4120-A653-86D1940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F315-9497-48A8-880A-AC84B325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D6E-6258-403B-92DC-974451BB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8AE8-A83E-43F1-8667-C2886E98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13BA4-5488-4B5E-A6EF-C1AD7826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146B-EC59-430A-AE79-21D62CB7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EAE88-CF4B-4171-BDB8-31D85238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8CFC-2304-4D4B-845A-3B8CD0C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B856E-43A7-4E63-8FE5-1E244CE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BF43A-0A9C-47E8-B75C-769A7C4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9123-FEAC-4BC8-8707-CD7382A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4DB3-AAA8-412F-987E-1B9B377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76D2-5376-459C-B415-DED60304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F36-6ADB-4439-B51F-1DBE8D54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128A-C428-49B4-AD1D-3BA3A3E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D3115-F5AA-44B8-95B5-36827FD4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3CB3-CDA0-46B9-BF7D-1B5703FD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3567-602D-4DB4-A904-ABF8BCD0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A1BE-8DC7-4B27-9F0D-DF030388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FD6B-FE86-4711-801F-7A67A9D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F7D52-76F2-493F-B7DE-BD51374D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762D-22AE-405F-99F3-D342AA7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5998-9BC0-4864-AD98-00E12DA2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01BA-7F88-4203-AFA4-6172495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8BB-2BA1-42C6-97B8-DB60E60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4685-90C4-42AD-AD32-6BFE6B0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9606D-E426-4327-A89F-4E38426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77F0-2A9A-46C9-A78D-D2F0237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0309-3A0B-4A8F-9FD4-C6B7778B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73C0-04F3-4A34-B88A-1E9BA21F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644AF-1F36-4709-8A1B-DA8D7BC0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4BE2-ECC0-4F61-A794-BB4C019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83BB-6520-4FC2-AA7F-759A61A0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CAA28-BB15-4273-B334-5957D7C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F23B-468E-44EA-8D12-A3186AD8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9D4-E50A-497C-98F9-0F03931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841FF-0AED-4821-ABEE-18ECE9F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ED1E-0191-4CB7-95D1-7ADAD6E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27F2-FF1A-473F-AA71-A90294E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3756-80AF-417E-99A3-4EBA7B9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792B-8FD5-4AF7-B575-0AAB16F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5A70-3F09-41E9-84C3-A29EE520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9AD8A-9247-4CB3-9B0B-A9497672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27DD2-B9F3-46FB-BD3E-98D5012B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D0B11-9CF0-4941-8AE2-B7F57215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26082-CB13-43FB-88D8-7645CFF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4E2-97D6-47BB-BDCE-28D37ADEFC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5B2-467C-4DC5-B2A0-8950016B60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5F9-9798-4187-8EE9-CFF0BA3D65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BF8-24F6-4A01-A789-6E3D5EF5C9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0666-5929-4110-B574-FB25B34D22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0892-BE48-4CAF-B386-458C1C99F2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D23-CDBC-41B7-9ED7-F21ABC313C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040-7335-4BF8-B631-71FC5FDDD2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22E7-F099-4B49-886C-82D707F231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81D-BFFF-4D1E-9451-ACB16A650D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zapoved.ru/?act=oopt_rb_more&amp;id=173" TargetMode="External"/><Relationship Id="rId2" Type="http://schemas.openxmlformats.org/officeDocument/2006/relationships/hyperlink" Target="http://zapoved.ru/?act=oopt_rb_more&amp;id=181" TargetMode="External"/><Relationship Id="rId3" Type="http://schemas.openxmlformats.org/officeDocument/2006/relationships/hyperlink" Target="http://zapoved.ru/?act=oopt_rb_more&amp;id=167" TargetMode="External"/><Relationship Id="rId4" Type="http://schemas.openxmlformats.org/officeDocument/2006/relationships/hyperlink" Target="http://zapoved.ru/?act=oopt_rb_more&amp;id=209" TargetMode="External"/><Relationship Id="rId5" Type="http://schemas.openxmlformats.org/officeDocument/2006/relationships/hyperlink" Target="http://zapoved.ru/?act=oopt_rb_more&amp;id=210" TargetMode="External"/><Relationship Id="rId6" Type="http://schemas.openxmlformats.org/officeDocument/2006/relationships/hyperlink" Target="http://zapoved.ru/?act=oopt_rb_more&amp;id=388" TargetMode="External"/><Relationship Id="rId7" Type="http://schemas.openxmlformats.org/officeDocument/2006/relationships/hyperlink" Target="http://zapoved.ru/?act=oopt_rb_more&amp;id=389" TargetMode="External"/><Relationship Id="rId8" Type="http://schemas.openxmlformats.org/officeDocument/2006/relationships/hyperlink" Target="http://zapoved.ru/?act=oopt_rb_more&amp;id=451" TargetMode="External"/><Relationship Id="rId9" Type="http://schemas.openxmlformats.org/officeDocument/2006/relationships/hyperlink" Target="http://zapoved.ru/?act=oopt_rb_more&amp;id=493" TargetMode="External"/><Relationship Id="rId10" Type="http://schemas.openxmlformats.org/officeDocument/2006/relationships/hyperlink" Target="http://zapoved.ru/?act=oopt_rb_more&amp;id=582" TargetMode="External"/><Relationship Id="rId11" Type="http://schemas.openxmlformats.org/officeDocument/2006/relationships/hyperlink" Target="http://zapoved.ru/?act=oopt_rb_more&amp;id=623" TargetMode="External"/><Relationship Id="rId12" Type="http://schemas.openxmlformats.org/officeDocument/2006/relationships/hyperlink" Target="http://zapoved.ru/?act=oopt_rb_more&amp;id=767" TargetMode="External"/><Relationship Id="rId13" Type="http://schemas.openxmlformats.org/officeDocument/2006/relationships/hyperlink" Target="http://zapoved.ru/?act=oopt_rb_more&amp;id=939" TargetMode="External"/><Relationship Id="rId14" Type="http://schemas.openxmlformats.org/officeDocument/2006/relationships/hyperlink" Target="http://zapoved.ru/?act=oopt_rb_more&amp;id=798" TargetMode="External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9;&#1072;&#1080;&#1093;&#1072;_(&#1088;&#1077;&#1082;&#1072;)" TargetMode="External"/><Relationship Id="rId2" Type="http://schemas.openxmlformats.org/officeDocument/2006/relationships/hyperlink" Target="http://ru.wikipedia.org/wiki/&#1052;&#1072;&#1085;&#1072;_(&#1088;&#1077;&#1082;&#1072;)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85920" y="17859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Особо охраняемые территории Российской федерации. Государственный природный заповедник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толбы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”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932000" y="3429000"/>
            <a:ext cx="4095720" cy="3121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Никишкина Татьяна Борис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читель географии, Муниципальное бюджетное общеобразовательное учреждение города Керчи Республики Крым «Специализированная школа №1 с углубленным изучением английского языка имени Володи Дубинин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28880" y="274320"/>
            <a:ext cx="225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чв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28440" y="285480"/>
            <a:ext cx="4429080" cy="64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нову почвенного покрова заповедника составляют горно-лесные дерново-подзолистые почвы (86 % от площади заповедника), они приурочены к поясу горной темнохвойной тайги (500-800 м над у. м.). Горно-лесные серые почвы развиты под лиственно-светлохвойными лесами (200-500 м), занимая 8 % площади заповедника. Другие типы почв встречаются отдельными фрагментами в обоих поясах. Все типы почв заповедника имеют общие особенности: малую мощность, щебнистость или хрящеватость, слабую дифференцированность профилей на генетические горизонты, слабое развитие грунтово-застойного заболачивания, а также отсутствие засоления. Абсолютное большинство почв имеет тяжелосуглинистый и легкосуглинистый характер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5" name="Picture 7" descr="IMG_6746"/>
          <p:cNvPicPr/>
          <p:nvPr/>
        </p:nvPicPr>
        <p:blipFill>
          <a:blip r:embed="rId1"/>
          <a:stretch/>
        </p:blipFill>
        <p:spPr>
          <a:xfrm>
            <a:off x="5429160" y="1428840"/>
            <a:ext cx="33940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793"/>
            </a:gs>
            <a:gs pos="100000">
              <a:srgbClr val="50554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ая книг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37098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грибы</a:t>
            </a:r>
            <a:br>
              <a:rPr sz="1200"/>
            </a:br>
            <a:r>
              <a:rPr b="1" i="1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Ежевик коралловидный, / Hericium coralloides</a:t>
            </a:r>
            <a:r>
              <a:rPr b="0" lang="ru-RU" sz="1200" spc="-1" strike="noStrike">
                <a:solidFill>
                  <a:srgbClr val="ff66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Рогатик пестиковый / Clavariadelphus pistillaris</a:t>
            </a:r>
            <a:r>
              <a:rPr b="0" lang="ru-RU" sz="1200" spc="-1" strike="noStrike">
                <a:solidFill>
                  <a:srgbClr val="ff66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Спарассис курчавый / Sparassis crisp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лишайники</a:t>
            </a:r>
            <a:br>
              <a:rPr sz="1200"/>
            </a:br>
            <a:r>
              <a:rPr b="1" i="1" lang="ru-RU" sz="1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Лобария легочная / Lobaria pulmonari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Лобария сетчатая / Lobaria retiger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покрытосеменные</a:t>
            </a:r>
            <a:br>
              <a:rPr sz="1200"/>
            </a:br>
            <a:r>
              <a:rPr b="1" i="1" lang="ru-RU" sz="1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Венерин башмачок крупноцветковый / Cypripedium macranthon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Венерин башмачок настоящий / Cypripedium calceolus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Калипсо луковичная / Calypso bulbos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Ковыль перистый / Stipa pennat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Неоттианте клобучковая / Neottianthe cucullat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Пальцекорник балтийский / Dactylorhiza baltica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2"/>
              </a:rPr>
              <a:t>Ятрышник шлемоносный / Orchis militaris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рыбы</a:t>
            </a:r>
            <a:br>
              <a:rPr sz="1200"/>
            </a:br>
            <a:r>
              <a:rPr b="1" i="1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Обыкновенный таймень / Hucho taimen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г / Coregonus lavaretus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птицы</a:t>
            </a:r>
            <a:br>
              <a:rPr sz="1200"/>
            </a:br>
            <a:r>
              <a:rPr b="1" i="1" lang="ru-RU" sz="1200" spc="-1" strike="noStrike" u="sng">
                <a:solidFill>
                  <a:srgbClr val="8dc765"/>
                </a:solidFill>
                <a:uFillTx/>
                <a:latin typeface="Corbel"/>
                <a:hlinkClick r:id="rId14"/>
              </a:rPr>
              <a:t>Балобан / Falco cherrug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Беркут / Aquila chrysaetos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огильник / Aquila heliaca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апсан / Falco peregrinus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копа / Pandion haliaetus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епной орел / Aquila rapax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н / Bubo bubo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ерный аист / Ciconia nigra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8" name="Picture 7" descr="falcaoperegrino"/>
          <p:cNvPicPr/>
          <p:nvPr/>
        </p:nvPicPr>
        <p:blipFill>
          <a:blip r:embed="rId15"/>
          <a:stretch/>
        </p:blipFill>
        <p:spPr>
          <a:xfrm>
            <a:off x="4648320" y="2185920"/>
            <a:ext cx="4038480" cy="33544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138720" y="58975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хранение сущности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родный заповедник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олб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был создан по просьбе жильцов города Красноярска с целью сохранения неповторимого природного комплекса, находящегося в трёх природных зонах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ласть высокой поясности, горная тайга и лесостепь. Спустя время заповедник стал расширяться и увеличиваться, однако вместить всех представителей флоры и фауны он не сможет, поэтому люди должны прекратить охоту, браконьерство и способствовать сохранению сущности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3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 грани вымирания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40384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мирный союз охраны природы опубликовал очередной «Красный список» – документ, в котором перечислены виды животных и растений, находящиеся под угрозой вымирания. По данным ученых, опасность сейчас угрожает 15589 видам. В «Красный список» уже несколько лет назад включена восьмая часть всех известных видов пернатых и четверть видов млекопитающи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Picture 7" descr="717868"/>
          <p:cNvPicPr/>
          <p:nvPr/>
        </p:nvPicPr>
        <p:blipFill>
          <a:blip r:embed="rId1"/>
          <a:stretch/>
        </p:blipFill>
        <p:spPr>
          <a:xfrm>
            <a:off x="4572000" y="1773360"/>
            <a:ext cx="3887640" cy="3240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9"/>
          <p:cNvSpPr/>
          <p:nvPr/>
        </p:nvSpPr>
        <p:spPr>
          <a:xfrm>
            <a:off x="5508720" y="522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сурийский т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и решения пробле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3456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этому во всём мире ежегодно создаются заповедники и национальные парки, биосферные заповедники и заказники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0" name="Picture 11" descr="text15"/>
          <p:cNvPicPr/>
          <p:nvPr/>
        </p:nvPicPr>
        <p:blipFill>
          <a:blip r:embed="rId1"/>
          <a:stretch/>
        </p:blipFill>
        <p:spPr>
          <a:xfrm>
            <a:off x="594036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4" descr="bashturist_ru_burz-06"/>
          <p:cNvPicPr/>
          <p:nvPr/>
        </p:nvPicPr>
        <p:blipFill>
          <a:blip r:embed="rId2"/>
          <a:stretch/>
        </p:blipFill>
        <p:spPr>
          <a:xfrm>
            <a:off x="660240" y="4437000"/>
            <a:ext cx="3508560" cy="218772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2"/>
          <p:cNvSpPr/>
          <p:nvPr/>
        </p:nvSpPr>
        <p:spPr>
          <a:xfrm>
            <a:off x="5940360" y="35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тип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вед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4500720" y="544500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вед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льган-Та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3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оярская крас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5" name="Picture 54" descr="1160250475_stolby2"/>
          <p:cNvPicPr/>
          <p:nvPr/>
        </p:nvPicPr>
        <p:blipFill>
          <a:blip r:embed="rId1"/>
          <a:stretch/>
        </p:blipFill>
        <p:spPr>
          <a:xfrm>
            <a:off x="695160" y="1600200"/>
            <a:ext cx="3562560" cy="2185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6" descr="15_Sokolenko_Stolby"/>
          <p:cNvPicPr/>
          <p:nvPr/>
        </p:nvPicPr>
        <p:blipFill>
          <a:blip r:embed="rId2"/>
          <a:stretch/>
        </p:blipFill>
        <p:spPr>
          <a:xfrm>
            <a:off x="250920" y="4508640"/>
            <a:ext cx="1477800" cy="21873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Красноярском крае тоже есть охраняемое место, призванное спасти вымирающих представителей флоры и фауны – природный заповедник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олб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2125080" y="6021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ла Д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1692360" y="40053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на тайгу с Плеча Д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ая информ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85520" y="1600200"/>
            <a:ext cx="79009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Государственный природный заповедник «Столбы»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расположен на северо-западных отрогах Восточного Саяна, граничащих со Среднесибирским плоскогорь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тественными рубежами охраняемой территории являются правые притоки р. Енисей: на северо-востоке — река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на юге и юго-западе — реки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сиенитовых останцев — «столбов». В настоящее время его площадь - 47 154 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3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5" dur="3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929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обенности заповедни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8358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ельеф: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льеф среднегорный. В пределах заповедника насчитывается около 40 "столбов" - скал, сложенных Розовыми сиенитами, которые расположены среди темнохвойной тайги. Территорию заповедника с северо-запада на юго-восток пересекает извилистая дуга основного водораздела. Он состоит из переходящих один в другой хребтов: Листвяжного, Центрального и Кайдынского. Самый южный из них - Кайдынский - простирается в юго-восточном направлении на 11 км. Его высоты превышают 700 м (наивысшая точка - 832 м над у. м.). Этот хребет представляет собой типичный участок выровненной поверхности древнего пенеплена, его северо-восточный склон опускается к р. Базаиха покатыми, лесистыми склонами, расчлененными на ряд второстепенных блоков. Южный склон хребта крут, сильно эродирован, изрезан узкими долинами многочисленных ручьев и притоков р. Мана, берег которой местами обрывистый, с выходами скальных пород. Севернее Кайдынского хребта лежит Центральный (Абатакский) хребет. Его слабо вытянутая к югу дуга простирается на 16 км с запада на восток через центральные районы заповедника. Высоты хребта колеблются от 600 до 700 м. На восточной его оконечности возвышается гора Абатак (803 м над у. м.). Средняя часть хребта представлена обширными, плоскими, сильно заболоченными плато. На восточной оконечности он расчленен узкими долинами речек с крутыми склонами. Основной водораздел заканчивается на севере Листвяжным хребтом, протянувшимся к югу на 12 км. Его высоты не превышают 700 м, склоны значительно изрезаны многочисленными ручьями. На водораздельном пространстве часто встречаются небольшие скалы и узкие (до 1-2 м) гребешки, сложенные интрузивными породами. На окраинных его частях возвышаются крупнейшие скальные массивы, известные под названиями "Второго Столба", "Крепости" и "Развалов". Особо выделяется рельеф так называемого Столбинского нагорья и отходящих от него узких грив: Каштачной, Такмаковской и хребта Откликного. Это район сиенитовой интрузии, высотой 600-700 м, сильно расчлененный ручьями и речками. Кроме того, рельеф усложнен повсеместными выходами древних сиенитовых скал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42920" y="-360"/>
            <a:ext cx="20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льеф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5" name="Picture 7" descr="da4f8f0cde483b7195390f9a769fce9f"/>
          <p:cNvPicPr/>
          <p:nvPr/>
        </p:nvPicPr>
        <p:blipFill>
          <a:blip r:embed="rId1"/>
          <a:stretch/>
        </p:blipFill>
        <p:spPr>
          <a:xfrm>
            <a:off x="971640" y="871560"/>
            <a:ext cx="3529080" cy="4933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4c3765d89f2a8c761b0e7ddcca965a59"/>
          <p:cNvPicPr/>
          <p:nvPr/>
        </p:nvPicPr>
        <p:blipFill>
          <a:blip r:embed="rId2"/>
          <a:stretch/>
        </p:blipFill>
        <p:spPr>
          <a:xfrm>
            <a:off x="5586480" y="1219320"/>
            <a:ext cx="3271680" cy="4922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9"/>
          <p:cNvSpPr/>
          <p:nvPr/>
        </p:nvSpPr>
        <p:spPr>
          <a:xfrm>
            <a:off x="1117440" y="6021360"/>
            <a:ext cx="25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ская ба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5942880" y="623736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43760" y="274680"/>
            <a:ext cx="2543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има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оведник расположен в области умеренного климатического пояса. Многолетние данные метеостанции Столбы (536 м над у. м.) характеризуют климат темнохвойной тайги как более холодный, влажный и менее континентальный, чем степной климат в районе Красноярска (годовые амплитуды 33,8 град. С и 37,3 град. С). Средняя годовая температура в горной тайге заповедника -1-2 град. С, что на 2,1 градуса холоднее, чем в Красноярской лесостепи. Наиболее холодный месяц года - январь (среднемесячная температура -17,6 град. С), самый жаркий - июль (средняя температура +16,2 град. С). За время существования заповедника зарегистрированы абсолютный максимум +31,6 град. С и абсолютный минимум -44,9 град. С. В среднем за год отмечается 147 дней без мороза, в отдельные годы - 138-162. Средняя дата наступления первого заморозка - 17 сентября, последнего - 29 мая. В отдельные годы первые заморозки наступают уже с 28 августа или лишь с 9 октября, а последние - в период с 19 мая по 12 июня. Длительность вегетационного периода, когда среднесуточная температура воздуха больше или равна +5 град. С, составляет 138 дней. В течение года в горно-таежном поясе заповедника выпадает 686 мм осадков. Большая их часть приходится на зиму - 31,3 %, на лето - 27 % и весну - 22,7 %. Меньше всего осадков выпадает осенью - 19 %. Устойчивый снежный покров держится в среднем 124 дня; его средняя мощность 94 см, максимум приходится на конец марта. Наибольшая высота снега зарегистрирована в 1966 г. - 139 см, а наименьшая в 1949 г. - 55 см. На формирование снежного покрова большое влияние оказывают преобладающие в заповеднике южные ветр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929200" y="0"/>
            <a:ext cx="2828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одоё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42960" y="642960"/>
            <a:ext cx="85010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рритория заповедника несет хорошо развитую гидрографическую сеть (0,63 км/ кв. км), общей протяженностью более 300 км. Она группируется в четыре различных по площади водосборных бассейна: Маны, Базаихи, Большой Слизневой и собственно Енисея. Основной водораздельный хребет смещен в сторону Маны. На протяжении 27 км ее правое побережье является границей заповедника. В пределах заповедника на Мане имеется около 20 островов и 10 заливов. Местами ширина реки доходит до 200 м. Глубина на перекатах 40-60 см и 20-30 м на "ямах". Скорость течения в среднем 5 км/час. Правобережные притоки Маны, за исключением Большого и Малого Индея, коротки, маловодны, имеют крутое падение и неразработанные долины, нередко протекают в узких падях. Второй по величине пограничной рекой заповедника является Базаиха. Ширина поймы Базаихи колеблется от 40 до 250 м, а реки - 12-32 м. В летнее время глубина реки 16-45 см, и лишь на отдельных "ямах" достигает 2 м. Скорость течения колеблется в пределах 2-4 км в час. Притоки Базаихи, протекающие по заповеднику, протяженнее, чем притоки Маны. Западной границей заповедника на протяжении 16 км является третья по величине таежная речка Большая Слизнева. Её ширина - 2-3 м. Широко представлена в заповеднике сеть больших ручьев со средней протяженностью около 7 км и падением 45 м на километр. Самую многочисленную группу водоемов представляют малые ручьи и родники. Протяженность их около 2 км, падение 70-180 м на километр. Их долины не разработаны и представляют собой распадки каньонообразного тип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8:34:23Z</dcterms:created>
  <dc:creator>Админ</dc:creator>
  <dc:description/>
  <dc:language>en-US</dc:language>
  <cp:lastModifiedBy>Пользователь Windows</cp:lastModifiedBy>
  <dcterms:modified xsi:type="dcterms:W3CDTF">2022-03-27T11:18:19Z</dcterms:modified>
  <cp:revision>4</cp:revision>
  <dc:subject/>
  <dc:title>Особо охраняемые территории Российской федерации</dc:title>
</cp:coreProperties>
</file>